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D4A-43B2-48D7-A253-207F06D5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955-6A2B-4271-913F-EAA0A184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3D7-D916-4BA6-BDA4-BE78880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CB1-5379-4BD4-9299-69DEF244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44A-3923-4AF7-A7D2-B7A2709F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ABD-7172-4A80-9D48-DEE6CA2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4A7-A9A3-4669-A1CA-BEB995AB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5E6-7559-44EC-BC5C-18B4190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E56-C314-4CCC-911E-99841F93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F87-F53C-4042-8AE4-0B13E1F4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AF4-A9F8-40B6-A526-7FA721B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5CC-A127-420E-A4BE-3D07CE8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109-3752-46AA-84F8-AB3FE0A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3AFD-FFCE-4041-A172-60613A31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11-18T18:18:51Z</dcterms:modified>
  <cp:revision>69</cp:revision>
  <dc:subject/>
  <dc:title>Molecular Genetics</dc:title>
</cp:coreProperties>
</file>